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  <p:custShowLst>
    <p:custShow name="Custom Show 1" id="0">
      <p:sldLst>
        <p:sld r:id="rId15"/>
        <p:sld r:id="rId18"/>
        <p:sld r:id="rId16"/>
        <p:sld r:id="rId17"/>
        <p:sld r:id="rId19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AD51D-D710-435A-A8C9-D4FC973F2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F9252-C573-4D26-ACE1-010C0654D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C74638-7AA3-4E29-892B-6612CCA4F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917276-4EF2-44BD-82BA-4184C48DD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108238-70F9-4F1F-817C-E0DBBD17A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A10C56-FCF9-440E-888E-154476C4E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790D98-16B2-45CB-A169-1B2D5B9FB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BB29D5-7254-4F1B-BC07-5581EA961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23B8E4-C08B-4FC7-88C7-4AF428353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EB01AC-1018-452B-B140-B3FF51E9E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00CBD3-5622-4DEB-A554-EC7F0462A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74D35C3-4026-4F2C-9AC4-5F55DEB42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D015C-612C-4611-AFE8-A2F897A2F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46183A1-FAA7-4A68-8A19-7B63BC567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007E750-B949-4903-A035-20A00BA8A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060B2BF-A2EA-4154-8D70-2AF62223D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50E38D5-107E-40FE-90BB-69D3B451C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38F3D9D-2C20-4093-BC9A-90BC85CE0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6D13D6A-A016-4A39-81FA-683AEB51A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B33C025-9423-4B9C-80BF-662A1386F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00CD317-6276-41F5-ADB8-7D7AF6115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E4BF423-F445-4182-8624-124F879F4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0D34B96-B823-4A84-BA51-AA8A6F0CC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E5D52-DA5F-45F5-BB94-B6F6F9B3C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58D4602-FE41-48F5-A772-F696B4A41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F5C1A5-CB6B-4004-8F60-C4C056D58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D2896B-43F5-436D-AEDC-76E08E2DC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5E7557-201B-405F-9D91-B8A1BADA1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7FF9CD-6A56-4E84-96A4-5140349D4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274717-C2FC-4A4E-AAD4-725E1DB6C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079301-4CC6-4C42-A331-D7BC52E15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BFCE89-F4FA-4248-B1CF-34FE64A11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6183B3-0F3D-4C05-BE9B-E7E81E0C4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0CC0EC-A428-4A1A-B554-5E729FF86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D7E61-DE7A-481B-83F2-AE1F3642D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D4EF43-7893-4B54-95A9-B9A033571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E7B6DE-2520-4C5B-BF22-DDF3455B6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A1D2BA-E0E5-476E-935E-14A1F1CD8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A1265E-AAE9-46BF-9903-1BC148769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5B6CBE-8D14-470F-9CE6-19842E76D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65FD9E-9561-45E8-A446-4589FE2F7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EAF351-B9EC-43C1-848D-4038F57B8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5CAF02-E340-4064-BA0F-3CFBE3ECC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202B60-FDFE-4411-B4E4-BFD808D22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8A4DAA-F781-4E4D-AC99-ED09F651B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C1B97-1254-4A47-B2E6-21DDFE88F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13063B-A8C4-45BF-BE93-C69A03AE3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D9108C-F658-449C-9F80-DB1B687C5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4D83C7-3879-4689-B220-DC294E8A7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79DAAB-0CEC-4C83-8169-1D06EB711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73E5F9-2CAF-4251-BA9E-80E61DA83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3C2F8-6586-41E2-A49B-CEE14DE87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D205A-D69C-495C-AD42-AFA390EFF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E0753-A070-454C-BBD7-14542A6A7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48414-8E78-4007-941F-0BE671362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0497A-4C76-4A75-9AE8-46F60EA86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96823-EE4A-45B9-929E-9B56075A8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A7EBA-5B20-416F-A90E-E7D389498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8C06B-5C53-4FF4-9233-0E01CC127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0027E-5F33-4B7A-BA8E-3F9421151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51132-0419-4B60-9058-AF5C147C0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7DA19-6B1D-42E4-8DCE-10476F06C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4A8257-41FB-4F9E-BE70-6A53F895E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093AE3-20D3-414B-AEAE-4B5E4EA46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9A5CF5-36A8-4C0F-944F-D266A7259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8B2D72-08A7-4AAD-A457-FA8D98289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E0E29D-D993-441C-B0E5-31C3588E2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8DE77-68DE-4B9E-865F-D2979D575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5572CA-DF42-4179-8AE0-264E1C824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EB1B36-ADBE-433C-BBC4-0934BE6E3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42A682-767F-44BE-B1E0-AC79A4520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22C98C-AA0E-4F27-B3DF-46725AE0B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568E60-2EC6-4D1F-B5FF-3AD0B13C0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26A539-7639-4C6A-8A7B-C002F10EC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B03834-3545-444F-B56F-5B43292A2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3C2207-63F8-425C-A1DE-805F90B60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931433-C347-4239-AED0-D1B398F09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139451-6429-45CC-8BB0-3FF3DE7F9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917F5-A963-46AA-9F9A-0810E6703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17957C-3A0D-482D-86C7-B4F914825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8E3B0A-DCF7-4E10-A65A-46FBD6C76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B6C2DE-C7A9-4D17-8DBC-A27CB389E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8C3B6C-CDF2-4D56-951A-2DF769903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6F121D-F748-4EB0-A3F0-423E2A8A2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24757A-C326-442A-A1B9-A00E0DEF3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0D96C2-EFF2-4A21-8DFD-F37E2515F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16BBB8-9DCB-4F06-8C68-CB0045BB8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5AD000-9EE1-42C9-B3A2-F96E352FF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F1F9517-7FC8-4043-9211-8FCD4C83D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C2B7C-0050-44FC-82C7-351F97B0C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C6DE131-288C-4EBC-BDF1-10A5BE0F9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83A708B-1005-4071-94D6-634C2C100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CF07749-C984-4224-A7A4-13E1F93F0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AEF7F2E-3B64-4F4F-8E65-BC2995C08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2C4ABC2-F623-47DD-ABCF-71D5A1447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726685C-4CA4-43DA-B60B-B55A93569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F87BA06-CDD0-4F91-A66A-B19BA1D1E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81E3FC5-409B-4EC5-A30E-8647F8FA0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E390560-3A18-4396-83B8-F44746142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592BB4E-4D58-48CD-A90E-C33549591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A7ECD-8D0C-4EA0-B51F-93E54C7AE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76F3FC7-30DE-4F09-B7DB-DBBE8BA4D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8B2DC5-EAD2-4327-8E1F-C3DE0F09F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396D07-AA89-4A3C-92D1-7844B4F95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FA6186-47D2-448C-B177-197F6EECD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7094CA-3D7D-46D5-9680-A0D0DD9C7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5E2DB0-BA38-43C9-92CA-A38835C37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0EE232-E4EE-4D60-82CD-A98C1DD67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78FC16-3741-4121-A4B7-B4B4163AC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FF25EF-834C-4E3B-B744-D29FF94A6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17097B-1697-4140-AE13-0B88E6680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3B215-60DE-4650-A098-AAE31F174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97C4D7-8770-4BFB-BAA4-06387DA01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76EAFA-E036-4118-9A15-FA7337A58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36CC6F-1FBE-4F47-9EDF-75F51C026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EDC114-8B8B-45F3-A6FC-78C55B3BB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93C4D9-A6EC-42FD-895C-575CC5EE1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BCADBE-C9BB-4DAB-B173-7DE6E28FA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A8708B-7224-40B9-AB14-332B35A09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BAAE71-AEF6-4804-B09A-6D37F2301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640B6A-DCC2-42E6-A617-797EE2823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C2A6C4-5471-4428-9D67-6343FB7E0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BD90D-D667-463B-8C4C-09AE5E625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3DC754-E079-4680-8E82-03E8772B9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7FCAFE-F194-4E2C-BD02-74259B4D6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A02E5C-14EF-4B83-865D-EBD4E40EB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E0E526-6D91-4AA3-8A90-CA579D11A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091EA8-EAC0-42F5-9A2B-6B39E8CFD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5BBA3D-9843-4BC4-A7B7-8DEA7E6E8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97C19F-276F-4FE8-87B8-DD0F588B6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C59A7F-EFCF-48F3-830B-A1C1B7ABE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5F64E4-43A7-4BFF-BE34-C5F807240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2C65DC-98A0-4B8E-82CB-95AEAF112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0098A-F297-43FA-9EF9-24853DD4C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42C641-B67D-4C70-9F44-E552D454C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5EBA48-31DB-48AC-A7F2-2BC294605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340895-6316-4E3E-95D5-0D999B57D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4FD469-D52C-414D-B1AE-ABA88562B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EE798C-0058-49D3-9197-437FBE7CF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648D0D-D12A-4DA3-ACC8-17B710F56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3A08CC-78BC-4C1B-BB1D-C5C6D0C7B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AF1688-78E5-42D2-83C5-5C6BFC6DB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76369A-50E9-4B08-B100-3B7C9F192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FE4878-D5CF-4652-9567-40576E750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2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9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1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5606B-15FC-4575-A259-BF21D0E9EADD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0A147-7B95-45E5-8D59-83D5D5A035C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7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018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0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1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022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23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024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29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0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031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C13F4-25D7-4591-A51D-4699DB9A4761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sldNum" idx="2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8A09F-0CBA-4320-B706-1953080190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3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07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E31F6-EB57-49FD-B3A0-B72A75CD95B7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03C8D-0CD1-4F37-94D6-63BA2D7361F5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4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135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10991-3D38-4BD2-A835-A3E3E189FCF1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9139B-5459-4476-AFD1-525515FA15BB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75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77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14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6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7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1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2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4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5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6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7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0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1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4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6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20CC0-C146-49E1-85D2-B45F3FAE1BF8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E184A-321A-48C4-B514-9B57707250E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3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9873A-66C7-4B14-8FDB-168758EA3005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9662D-7351-4E55-BA5A-FC4FFC093F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9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09AA8-529C-4E9E-9F73-DBB7ED7CA907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67C30-912A-4862-B5A4-05C051C8F0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49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9217B-CC52-49A7-8DCE-B7BD5D20AC1E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 type="dt" idx="1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D6D8A-70D1-4E29-9C73-A03A17E53720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1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512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87DA7-2A16-4206-B4CF-054E5DDCE36F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EC778-B016-42C8-953F-A3BD0BBC1723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3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574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575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88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589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dt" idx="1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8562D-F98B-496A-9D30-35A2A1D05202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610D5-7253-42BA-8103-EABCEB1F397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5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766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767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781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 type="dt" idx="22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7B628-AD79-493B-A16E-F240D5832C93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4FED0-EE19-4830-A6DC-9D83A60564AB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57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59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0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961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2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963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8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9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970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973EF-F6D7-469D-882B-256D4804F910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CC6B7-9E99-425A-A38B-E532C236A4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berlin.de/buergeraktiv/content_aktuell.php?imperia_id=20051105.22263.html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66"/>
                </a:solidFill>
                <a:uFillTx/>
                <a:latin typeface="Arial"/>
              </a:rPr>
              <a:t>Berliner Zeitung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1" name="" descr=""/>
          <p:cNvPicPr/>
          <p:nvPr/>
        </p:nvPicPr>
        <p:blipFill>
          <a:blip r:embed="rId1"/>
          <a:stretch/>
        </p:blipFill>
        <p:spPr>
          <a:xfrm>
            <a:off x="1042920" y="4292640"/>
            <a:ext cx="2714760" cy="21524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2" name="" descr=""/>
          <p:cNvPicPr/>
          <p:nvPr/>
        </p:nvPicPr>
        <p:blipFill>
          <a:blip r:embed="rId2"/>
          <a:stretch/>
        </p:blipFill>
        <p:spPr>
          <a:xfrm>
            <a:off x="2052720" y="2567160"/>
            <a:ext cx="2712960" cy="21650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3" name="" descr=""/>
          <p:cNvPicPr/>
          <p:nvPr/>
        </p:nvPicPr>
        <p:blipFill>
          <a:blip r:embed="rId3"/>
          <a:stretch/>
        </p:blipFill>
        <p:spPr>
          <a:xfrm>
            <a:off x="3995640" y="3938760"/>
            <a:ext cx="2652840" cy="21873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1194" name=""/>
          <p:cNvSpPr/>
          <p:nvPr/>
        </p:nvSpPr>
        <p:spPr>
          <a:xfrm>
            <a:off x="1166760" y="5681520"/>
            <a:ext cx="2613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5" name="" descr=""/>
          <p:cNvPicPr/>
          <p:nvPr/>
        </p:nvPicPr>
        <p:blipFill>
          <a:blip r:embed="rId4"/>
          <a:stretch/>
        </p:blipFill>
        <p:spPr>
          <a:xfrm>
            <a:off x="5003640" y="981000"/>
            <a:ext cx="2714760" cy="21621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6" name="" descr=""/>
          <p:cNvPicPr/>
          <p:nvPr/>
        </p:nvPicPr>
        <p:blipFill>
          <a:blip r:embed="rId5"/>
          <a:stretch/>
        </p:blipFill>
        <p:spPr>
          <a:xfrm>
            <a:off x="5940360" y="2708280"/>
            <a:ext cx="2759040" cy="218592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AC08F-3582-4823-B81A-E61878064502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BDBF8D-89B9-4C17-A1BB-71FE2CA3AF92}" type="datetime1">
              <a:rPr lang="en-US"/>
              <a:t>07/30/26</a:t>
            </a:fld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4" dur="1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7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3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9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Der Königlichen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Wel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98" name="" descr=""/>
          <p:cNvPicPr/>
          <p:nvPr/>
        </p:nvPicPr>
        <p:blipFill>
          <a:blip r:embed="rId1"/>
          <a:stretch/>
        </p:blipFill>
        <p:spPr>
          <a:xfrm>
            <a:off x="5796000" y="1484280"/>
            <a:ext cx="2857320" cy="4334040"/>
          </a:xfrm>
          <a:prstGeom prst="rect">
            <a:avLst/>
          </a:prstGeom>
          <a:ln w="34920">
            <a:solidFill>
              <a:srgbClr val="000000"/>
            </a:solidFill>
            <a:miter/>
          </a:ln>
        </p:spPr>
      </p:pic>
      <p:sp>
        <p:nvSpPr>
          <p:cNvPr id="1199" name=""/>
          <p:cNvSpPr/>
          <p:nvPr/>
        </p:nvSpPr>
        <p:spPr>
          <a:xfrm>
            <a:off x="3903840" y="4313160"/>
            <a:ext cx="412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395280" y="2060640"/>
            <a:ext cx="5473800" cy="37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40000"/>
              </a:lnSpc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Kompakte Reiseführer, Broschüren, Bildbände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Individuelle Stadtführungen zu Fuß, mit Limousine oder Bus mit spannenden Erzählungen.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Besuch in der Königlichen Porzellan-Manufaktur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Die Berliner Parks und Tiergärten Ideal für die Erholung zwischendurch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9185AC-B3FC-403E-AFF0-CF0E7075670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fld id="{D65E0D29-2FB7-457B-BB8D-4D79E086CA23}" type="datetime1">
              <a:rPr lang="en-US"/>
              <a:t>07/30/26</a:t>
            </a:fld>
          </a:p>
        </p:txBody>
      </p:sp>
    </p:spTree>
  </p:cSld>
  <p:transition>
    <p:cover dir="d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9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3" dur="500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6" dur="5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20" dur="5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4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-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7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1" dur="5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4" dur="5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38" dur="5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3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23640" y="549000"/>
            <a:ext cx="727236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buSzPct val="13374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en-US" sz="4400" spc="-1" strike="noStrike" u="sng">
                <a:solidFill>
                  <a:srgbClr val="000066"/>
                </a:solidFill>
                <a:uFillTx/>
                <a:latin typeface="Times New Roman"/>
              </a:rPr>
              <a:t>Bildmotiv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995280" y="1844640"/>
            <a:ext cx="41166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Oberbaum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iegessäu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Kurfürstenda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Gedächtniskir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chloss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Unter den Linden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spcBef>
                <a:spcPts val="601"/>
              </a:spcBef>
              <a:buClr>
                <a:srgbClr val="fee1a8"/>
              </a:buClr>
              <a:buSzPct val="9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3" name="" descr=""/>
          <p:cNvPicPr/>
          <p:nvPr/>
        </p:nvPicPr>
        <p:blipFill>
          <a:blip r:embed="rId8"/>
          <a:stretch/>
        </p:blipFill>
        <p:spPr>
          <a:xfrm>
            <a:off x="838080" y="1798560"/>
            <a:ext cx="2370240" cy="4133880"/>
          </a:xfrm>
          <a:prstGeom prst="rect">
            <a:avLst/>
          </a:prstGeom>
          <a:ln w="38160">
            <a:solidFill>
              <a:srgbClr val="ffcc99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983DF1-0BD6-4535-918A-C39A61191B92}" type="slidenum">
              <a:t>3</a:t>
            </a:fld>
          </a:p>
        </p:txBody>
      </p:sp>
    </p:spTree>
  </p:cSld>
  <p:transition>
    <p:comb dir="horz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8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2000"/>
                            </p:stCondLst>
                            <p:childTnLst>
                              <p:par>
                                <p:cTn id="17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3000"/>
                            </p:stCondLst>
                            <p:childTnLst>
                              <p:par>
                                <p:cTn id="18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4000"/>
                            </p:stCondLst>
                            <p:childTnLst>
                              <p:par>
                                <p:cTn id="18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5000"/>
                            </p:stCondLst>
                            <p:childTnLst>
                              <p:par>
                                <p:cTn id="19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-324000" y="549000"/>
            <a:ext cx="979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Tahoma"/>
              </a:rPr>
              <a:t>Märchenstunde in Berlin</a:t>
            </a: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3800"/>
            </a:b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205" name=""/>
          <p:cNvGraphicFramePr/>
          <p:nvPr/>
        </p:nvGraphicFramePr>
        <p:xfrm>
          <a:off x="1042920" y="2276640"/>
          <a:ext cx="4249800" cy="1852560"/>
        </p:xfrm>
        <a:graphic>
          <a:graphicData uri="http://schemas.openxmlformats.org/drawingml/2006/table">
            <a:tbl>
              <a:tblPr/>
              <a:tblGrid>
                <a:gridCol w="790920"/>
                <a:gridCol w="903240"/>
                <a:gridCol w="1041120"/>
                <a:gridCol w="1514520"/>
              </a:tblGrid>
              <a:tr h="91440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€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ü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öck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üse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ä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tü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wäc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06" name="" descr="Märchent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95640" y="4221000"/>
            <a:ext cx="2664000" cy="1184400"/>
          </a:xfrm>
          <a:prstGeom prst="rect">
            <a:avLst/>
          </a:prstGeom>
          <a:ln w="25560">
            <a:solidFill>
              <a:srgbClr val="ffffcc"/>
            </a:solidFill>
            <a:miter/>
          </a:ln>
        </p:spPr>
      </p:pic>
      <p:sp>
        <p:nvSpPr>
          <p:cNvPr id="1207" name=""/>
          <p:cNvSpPr/>
          <p:nvPr/>
        </p:nvSpPr>
        <p:spPr>
          <a:xfrm rot="20019000">
            <a:off x="1186560" y="5096160"/>
            <a:ext cx="15372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. Jubiläu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 rot="1115400">
            <a:off x="5097240" y="1923120"/>
            <a:ext cx="335232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om 5. bis 21. November 2004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 rot="20671200">
            <a:off x="6369840" y="3299040"/>
            <a:ext cx="17154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unstmärch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 rot="20835000">
            <a:off x="1210680" y="1550880"/>
            <a:ext cx="28569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0.000 Besucher erwarte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 rot="21095400">
            <a:off x="4429440" y="5823000"/>
            <a:ext cx="34635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0 verschiedenen Institution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824E568-177C-4F41-9E16-F8C584752860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fld id="{2C8621B7-08FE-47EE-8C6A-B2B5C3E334C2}" type="datetime1">
              <a:rPr lang="en-US"/>
              <a:t>07/30/26</a:t>
            </a:fld>
          </a:p>
        </p:txBody>
      </p:sp>
    </p:spTree>
  </p:cSld>
  <p:transition>
    <p:wedge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7" dur="20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2000"/>
                            </p:stCondLst>
                            <p:childTnLst>
                              <p:par>
                                <p:cTn id="20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1" dur="20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4000"/>
                            </p:stCondLst>
                            <p:childTnLst>
                              <p:par>
                                <p:cTn id="21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5" dur="20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6000"/>
                            </p:stCondLst>
                            <p:childTnLst>
                              <p:par>
                                <p:cTn id="21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9" dur="20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8000"/>
                            </p:stCondLst>
                            <p:childTnLst>
                              <p:par>
                                <p:cTn id="22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3" dur="20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5" dur="2000" fill="hold"/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6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7" dur="20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8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9" dur="20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0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1" dur="20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2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3" dur="20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15000"/>
                            </p:stCondLst>
                            <p:childTnLst>
                              <p:par>
                                <p:cTn id="24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482400" y="351000"/>
            <a:ext cx="798660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cc"/>
                </a:solidFill>
                <a:uFillTx/>
                <a:latin typeface="Arial"/>
              </a:rPr>
              <a:t>Rückschau erster Wettbewerb vereinaktiv, Thema "Kinder"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539280" y="2062080"/>
            <a:ext cx="4681800" cy="40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Kreuzberger Wrangelki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„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Buchstabenoffensive“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Angebote für Kinder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Schmökerkist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as literarische Kinderkiezquartett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Jury kam zu dem Schlus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Handeln für ein soziales Problem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5392800" y="1927080"/>
            <a:ext cx="2882880" cy="40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Famili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Im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Täg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Leben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Kinder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Jugend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Erwachsenen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7C083F-6912-4469-8240-88B1F6776EA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fld id="{C53F801C-8F80-4FFE-A08C-42161ACB133D}" type="datetime1">
              <a:rPr lang="en-US"/>
              <a:t>07/30/26</a:t>
            </a:fld>
          </a:p>
        </p:txBody>
      </p:sp>
    </p:spTree>
  </p:cSld>
  <p:transition>
    <p:wipe dir="d"/>
  </p:transition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0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898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898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1000"/>
                            </p:stCondLst>
                            <p:childTnLst>
                              <p:par>
                                <p:cTn id="26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898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2000"/>
                            </p:stCondLst>
                            <p:childTnLst>
                              <p:par>
                                <p:cTn id="27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898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3000"/>
                            </p:stCondLst>
                            <p:childTnLst>
                              <p:par>
                                <p:cTn id="27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898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4000"/>
                            </p:stCondLst>
                            <p:childTnLst>
                              <p:par>
                                <p:cTn id="28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898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5000"/>
                            </p:stCondLst>
                            <p:childTnLst>
                              <p:par>
                                <p:cTn id="29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898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6000"/>
                            </p:stCondLst>
                            <p:childTnLst>
                              <p:par>
                                <p:cTn id="29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898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7000"/>
                            </p:stCondLst>
                            <p:childTnLst>
                              <p:par>
                                <p:cTn id="30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898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8000"/>
                            </p:stCondLst>
                            <p:childTnLst>
                              <p:par>
                                <p:cTn id="31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898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9000"/>
                            </p:stCondLst>
                            <p:childTnLst>
                              <p:par>
                                <p:cTn id="31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898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0000"/>
                            </p:stCondLst>
                            <p:childTnLst>
                              <p:par>
                                <p:cTn id="32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898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11000"/>
                            </p:stCondLst>
                            <p:childTnLst>
                              <p:par>
                                <p:cTn id="33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898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12000"/>
                            </p:stCondLst>
                            <p:childTnLst>
                              <p:par>
                                <p:cTn id="34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898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13000"/>
                            </p:stCondLst>
                            <p:childTnLst>
                              <p:par>
                                <p:cTn id="34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898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6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8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0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1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3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6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8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0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1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3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6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8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0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1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3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5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6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8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0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1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3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5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6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8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0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1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3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6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8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0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1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3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5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6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8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0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1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3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5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6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8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5" name=""/>
          <p:cNvGrpSpPr/>
          <p:nvPr/>
        </p:nvGrpSpPr>
        <p:grpSpPr>
          <a:xfrm>
            <a:off x="1955880" y="1338480"/>
            <a:ext cx="5116320" cy="5106960"/>
            <a:chOff x="1955880" y="1338480"/>
            <a:chExt cx="5116320" cy="5106960"/>
          </a:xfrm>
        </p:grpSpPr>
        <p:sp>
          <p:nvSpPr>
            <p:cNvPr id="1216" name="_s96341"/>
            <p:cNvSpPr/>
            <p:nvPr/>
          </p:nvSpPr>
          <p:spPr>
            <a:xfrm>
              <a:off x="2637000" y="202788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ae99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7" name="_s96342"/>
            <p:cNvSpPr/>
            <p:nvPr/>
          </p:nvSpPr>
          <p:spPr>
            <a:xfrm rot="3600000">
              <a:off x="2649240" y="201492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714d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8" name="_s96343"/>
            <p:cNvSpPr/>
            <p:nvPr/>
          </p:nvSpPr>
          <p:spPr>
            <a:xfrm rot="7200000">
              <a:off x="264924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33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9" name="_s96344"/>
            <p:cNvSpPr/>
            <p:nvPr/>
          </p:nvSpPr>
          <p:spPr>
            <a:xfrm rot="10800000">
              <a:off x="2636640" y="202752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e62e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0" name="_s96345"/>
            <p:cNvSpPr/>
            <p:nvPr/>
          </p:nvSpPr>
          <p:spPr>
            <a:xfrm rot="14400000">
              <a:off x="2649960" y="201420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cc28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1" name="_s96346"/>
            <p:cNvSpPr/>
            <p:nvPr/>
          </p:nvSpPr>
          <p:spPr>
            <a:xfrm rot="18000000">
              <a:off x="264996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bf26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2" name="_s96279"/>
            <p:cNvSpPr/>
            <p:nvPr/>
          </p:nvSpPr>
          <p:spPr>
            <a:xfrm>
              <a:off x="3289320" y="2048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regelmäßig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3" name="_s96278"/>
            <p:cNvSpPr/>
            <p:nvPr/>
          </p:nvSpPr>
          <p:spPr>
            <a:xfrm>
              <a:off x="24289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täglich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4" name="_s96265"/>
            <p:cNvSpPr/>
            <p:nvPr/>
          </p:nvSpPr>
          <p:spPr>
            <a:xfrm>
              <a:off x="32893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ccaa00"/>
                  </a:solidFill>
                  <a:latin typeface="Arial"/>
                </a:rPr>
                <a:t>bürgeraktiv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5" name="_s96264"/>
            <p:cNvSpPr/>
            <p:nvPr/>
          </p:nvSpPr>
          <p:spPr>
            <a:xfrm>
              <a:off x="50101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Vorschläge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6" name="_s96263"/>
            <p:cNvSpPr/>
            <p:nvPr/>
          </p:nvSpPr>
          <p:spPr>
            <a:xfrm>
              <a:off x="58705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darüber</a:t>
              </a: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7" name="_s96280"/>
            <p:cNvSpPr/>
            <p:nvPr/>
          </p:nvSpPr>
          <p:spPr>
            <a:xfrm>
              <a:off x="5010120" y="2050200"/>
              <a:ext cx="727200" cy="72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können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aa00"/>
                </a:solidFill>
                <a:latin typeface="Arial"/>
              </a:rPr>
              <a:t>Märchentage</a:t>
            </a: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-360" y="1917360"/>
            <a:ext cx="3187800" cy="42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1116000" y="371628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7308720" y="364500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8A4870-9C7D-425C-8590-C05CD9A327B6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fld id="{B2D0BE6F-CFEA-4511-92BF-7A24677D5740}" type="datetime1">
              <a:rPr lang="en-US"/>
              <a:t>07/30/26</a:t>
            </a:fld>
          </a:p>
        </p:txBody>
      </p:sp>
    </p:spTree>
  </p:cSld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0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5" dur="10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8" dur="5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50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3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54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7" dur="10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59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2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63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3T14:29:50Z</dcterms:created>
  <dc:creator>pd149311</dc:creator>
  <dc:description/>
  <dc:language>en-US</dc:language>
  <cp:lastModifiedBy>pd149311</cp:lastModifiedBy>
  <dcterms:modified xsi:type="dcterms:W3CDTF">2004-11-10T11:18:20Z</dcterms:modified>
  <cp:revision>44</cp:revision>
  <dc:subject/>
  <dc:title>Carlos Santana </dc:title>
</cp:coreProperties>
</file>