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68F7-58FE-49EB-822E-A24D359A1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E773-C7F4-44B3-9C91-6CF6DAE1A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30BFDF-8E6A-4CC1-9C0E-5CFBF2F3F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CE4A09-C141-42C9-9A67-3845B77F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C03CFA-7290-4AA1-AFB8-649214595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12389C-433E-402F-ACA8-345FBCEF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BAF603-18E0-49C3-93CE-72638B36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1141D0-BCF8-4DEE-B8FC-DC87DDD5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DEB692-CCD5-4A41-9D2D-B4E5F487E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0286C2-2042-4607-8474-7ECA3DC71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676345-BFDA-47DE-9E87-B6CAFE2B3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1A667D2-AE52-4873-845D-6198CDE82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01D9-8F82-474C-AD94-08E86906E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DC26FAE-977C-44CF-B531-7350AB39A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E238055-E7DC-4516-9A69-D14B00E5D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E610210-37EA-4E05-8ADA-408836653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2595A91-7263-4EE7-8A42-6C9D978B2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AFC570B-CD68-4E94-9FF3-4277AD24B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1B84955-8635-468C-8D42-6E2A73CD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499680E-265A-4138-9BD8-68F66743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B532603-9C72-4091-B591-6F4CE074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4C69E13-0601-4C04-8ADF-24627F77F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F46F782-C480-4162-8B32-5B40EF50C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94ED-64CD-47DE-A60C-3065B8CBA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E5B92C1-6985-4709-8A7C-887B6E7BF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FE38B1-900A-4320-B998-468D27024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8B3DE1-30A6-45D0-B794-B4140943C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79FFBC-B6CD-4051-B6ED-3E750E8A2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410EE7-559E-4D30-9F2C-319BBF3D0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A76429-F7FF-4875-92F6-115FAC8C4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EAF314-A256-4559-8A09-0E86BA117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235BB3-F312-4187-8817-853D408F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5FFE91-758A-469B-9947-2B6F215A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E217F6-86D4-4C9A-AE28-8A68284A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A0CAE-3DD8-4863-B946-44D9D9917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D97C50-FD06-4A3D-980E-7C8AFE4E0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ABA442-B199-4D65-989B-7C4FC8720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E5CD45-73DA-4B71-A839-EF0EF87D8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2E5886-B40C-4F8E-BBDD-10CAEE048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2E7EA0-0DA8-47E4-8646-133DA7820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D1BCE2-E31F-4971-A073-B59145773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26135C-2350-4AD5-957F-A01E15815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70F67A-7213-4D1A-8128-025A8ED29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DC1A89-D5C9-474C-BD16-46A6E20E3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6F4895-150D-40EC-A6C5-FBD0CFF2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3AC3A-F2C2-4BE9-BD1F-29CF37DA5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239260-4EE7-4802-B3D6-76A045F4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8B63DE-20B6-4F5A-A8A0-51699153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46CC17-E5D6-4C72-BC8C-FA3B32594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8ECB73-24A0-4F41-9D6F-982387A24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14C3A8-71AE-40B8-A454-C1AEDC933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D2BD7-0C9C-4BA6-9F77-34B4341B2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5AFFF-AE51-461B-830E-667028C96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2FDD8-150D-4789-A56F-4A96BA338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44688-E2FE-41AC-83F0-3BCAFF3B5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A27AF-16BB-4A3E-BC34-1BE1D9F6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E6E3-697D-4B86-8A8C-DBAFECA7E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50DCA-1662-4103-8B18-4BB3D2A9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EA689-5A5E-4986-8294-9B272ABB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0BBCE-BF67-436F-9A78-D53F1C8C9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74158-79AE-444F-A0E7-01F935DD5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BF3C5-69F9-4624-91FA-767B5CE38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E4BB5-8561-4B5E-B351-B48C1E550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328D3-3034-4332-80DC-65398966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B4650-894A-42A2-8E40-9D720DFF8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D684B-6707-442B-9CB4-8996E12B6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CD751-A441-4AB9-BD85-8B2EC7E13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8C34-589E-43AD-BA53-4C6A50F5E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D42EA-1193-41C5-BFC6-C2E5C1AD2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FB972-BE1B-4EF6-9FD0-7D0EF39A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80B2E-7C93-4091-AA0D-30681E44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AEE70-E6E1-4752-AD4D-113CFE0E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ECE34-A9BB-4D47-9345-89D029551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8B781-6275-497B-A08A-14E266B7E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E53CE-B6C6-4BDC-A9AC-CAE2CB0F8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34F1F-A478-4534-ADD5-EE9E56598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E0BC4-5EFD-47A8-9200-67B8C335E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79B14-F805-4863-AFA6-3494D3D84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6C83-A54F-4D18-895B-D0E20A7A7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908E6-2FC2-4C5B-94F3-52E9F8D2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879B2-FC5B-48F4-92D1-A4C1D53CE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C60F6-FDD9-4DF4-8A8B-A8B81BA8A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0D0E5-6DDD-4D4B-8B9F-F895E1C8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05896-C2A3-4650-9280-97EDC295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2ADB1-65F1-4B58-82F6-C2B7EB8A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A0CBE-B5F9-4E41-B671-DE0416591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58E4F-D6CD-4D04-AB40-432CC6A26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C4DEF-F9D0-4E3A-856F-5F945D0D4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73B906-0C63-4726-9994-DB063778A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F208-40E9-44ED-9776-7E81D2021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2F5694-7F61-4F93-9BDC-E1FF319FA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CEE85F-36DB-494E-94EB-961202798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D5BDAC-A292-4F94-B6FB-81680C006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BACD9C-2F07-416A-9FF7-EB2C80588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E3B52F-A6D3-4236-B5DE-F427B432E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17526F-A082-4424-843A-2BA27295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A5DB89-CAB8-4B6E-A5BA-D10B645C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B959A7-0623-4703-84C0-CA3D4D78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67DC14-C8BE-4C87-AD72-2E3334A1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1AA8F8-7F6F-408D-BA03-30320D665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AC93-B3FB-4258-80E2-C99C7268E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0A6C22-732C-414E-8BF1-A0A621A9C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036EAC-5D20-4881-9190-C97248845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CB3E90-5C75-4FD1-88F4-43341155E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A1284-5913-4761-B3C1-27593A94F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F3578-F71E-48EC-B3A8-6A1863843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D4966-1E68-4671-9E00-A05D96630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0E767-5E86-4666-872D-D2B29D908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D3FE9-736B-4DDF-A9FE-5B1DE720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B4D208-5812-4972-99D9-D4750A2F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DC44BC-1399-479A-84C7-37B33B0D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BB17-17D7-4135-B206-BFD02B6F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E9D1D5-6FFD-4756-AF8E-0D21B8FF1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5A67C-86AE-49BD-8B80-F675F90E1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1550D-48FC-41BA-B15F-6F158ABFE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80C1F1-45E5-4CB7-93EC-4C9F3E1F0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D6A4D-93CF-4A1D-B0E3-431247BA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D09032-9F9B-4AE8-8056-A3C379804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C3D05E-8E8C-4CBA-B6D2-02AB5A7AE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D87C48-92CE-43B6-AAA7-EC12D8EC9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EDA8E-D8AA-410B-AA62-11318DDCD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7F055-C519-46DE-B4D3-38A4F6FD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B42D-5A33-495D-900D-086797FE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3858EA-50CB-4B13-AC7C-3B954119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9AE12-080F-4AA8-AF2F-911FAD47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D4024-266B-49DB-9B45-039B136DC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5468E-0430-4F7B-8D0F-EDAA1B885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8B8447-1963-488C-90AC-3D9D0B74C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D5EBCB-83CF-4DD7-ABC4-9F973C3B2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0DBB73-EBF4-464F-A9C6-85669C739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82EC84-F2E0-4368-A13B-80338458A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168402-C897-427E-8539-4697822AC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D435EB-5ED6-4660-A44F-4C7E041EE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674C-CB44-496B-8AE8-E630350F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0880C7-5A48-4693-9170-138F5125D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AFA8D8-581B-4F0E-B314-6D918AE1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4AA373-6907-4C09-B27F-60E9700C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B5428C-A2A4-4916-BA50-5CDCE1AC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BB51DB-98A7-48F4-A0A3-6DB1CDDED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57D3CD-17E6-4D8D-AD85-2C9060D27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EBF52F-453A-4B2A-BE19-F82FFE149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4A3409-A5A3-4524-A56A-314EFF9E9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F1AE22-E3D4-4CCB-BAA2-A1B9F8688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82AEBB-002C-463A-A105-1BCE4A44D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79CE8-3BEE-40D4-99EE-CD01799F9BAB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EE349-EBDD-48FD-8D6D-1DBB3CE0119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48BE5-5BB1-4F93-95CB-B0971DA990D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00C7E-3052-4A50-ADBB-6CB11C098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D018A-1686-450E-A7DE-D58AEB7067CC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13E3F-2A25-410C-B5E1-294DDB8FFE9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BDF60-A34A-4B92-AB1F-C8DCCC437B66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9A3DB-2F0A-4402-A8F0-0CAA1BA4056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1E7AB-7E23-4EB2-BF0E-48F8523E8321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22814-4BF0-4D74-9294-B52C261A64E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454D2-9BDA-4804-A9F8-C11C6CFE2F8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49446-8445-4818-8842-3034E28FF4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54A4C-6294-4061-B374-DBC87DDB257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913F3-5399-47A3-9A09-AE30E102F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95004-D05F-472E-AA3A-04387B94455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A2F0F-F123-4302-8D54-3D82E233349C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443FE-04D6-4470-9251-AA8E66B4C7F8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50E2E-E49D-4F8E-ABC9-711721AD273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CF295-A997-497C-813F-A223A43AF060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C5EC9-E705-430E-B3B7-DC8EFC7E8DC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A73D3-9AC6-4A21-9263-38E24FB6CB66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28F3-B59D-4F4F-BD42-3F3374E0101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4B946-1710-4443-A6F6-67A0626230C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AF6F4-BEA3-49FF-A34E-83D2B4B02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1305-7FF5-4306-BA81-FB47A555974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C0B755-5884-4369-AB57-425FB12D2197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1E6368-AFE2-4B9C-B59D-FA8CA9EDAE9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E735586E-F10A-4CE8-9548-9ED0AD194866}" type="datetime1">
              <a:rPr lang="en-US"/>
              <a:t>07/30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" dur="1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w)" to="(-#ppt_w*2)">
                                      <p:cBhvr additive="repl">
                                        <p:cTn id="120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1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5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A3F49-BC47-4C01-A78C-193CDF504ED6}" type="slidenum">
              <a:t>3</a:t>
            </a:fld>
          </a:p>
        </p:txBody>
      </p:sp>
    </p:spTree>
  </p:cSld>
  <p:transition>
    <p:comb dir="horz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0"/>
                            </p:stCondLst>
                            <p:childTnLst>
                              <p:par>
                                <p:cTn id="1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381D9F-38DA-4601-A07C-0EFA0D87E570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C240BE3F-74F7-4600-A577-10AB09AB42B8}" type="datetime1">
              <a:rPr lang="en-US"/>
              <a:t>07/30/26</a:t>
            </a:fld>
          </a:p>
        </p:txBody>
      </p:sp>
    </p:spTree>
  </p:cSld>
  <p:transition>
    <p:wedg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6000"/>
                            </p:stCondLst>
                            <p:childTnLst>
                              <p:par>
                                <p:cTn id="2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8000"/>
                            </p:stCondLst>
                            <p:childTnLst>
                              <p:par>
                                <p:cTn id="2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4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A83651-A873-4612-BFB2-AC98E1F6D56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47A3EB62-3FFA-4706-9599-86EE37C15681}" type="datetime1">
              <a:rPr lang="en-US"/>
              <a:t>07/30/26</a:t>
            </a:fld>
          </a:p>
        </p:txBody>
      </p:sp>
    </p:spTree>
  </p:cSld>
  <p:transition>
    <p:wipe dir="d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4000"/>
                            </p:stCondLst>
                            <p:childTnLst>
                              <p:par>
                                <p:cTn id="2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0"/>
                            </p:stCondLst>
                            <p:childTnLst>
                              <p:par>
                                <p:cTn id="2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7000"/>
                            </p:stCondLst>
                            <p:childTnLst>
                              <p:par>
                                <p:cTn id="3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8000"/>
                            </p:stCondLst>
                            <p:childTnLst>
                              <p:par>
                                <p:cTn id="3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9000"/>
                            </p:stCondLst>
                            <p:childTnLst>
                              <p:par>
                                <p:cTn id="3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71A283-C754-4977-A141-2240EE04550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4FF68288-575E-4A6D-958B-2782E1727193}" type="datetime1">
              <a:rPr lang="en-US"/>
              <a:t>07/30/26</a:t>
            </a:fld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9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4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5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3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4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